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25AF-0C5E-47FD-B7D4-1AE07D9B3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BA78-0FED-428F-9B17-65BC41CB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F03A-F23A-4AAC-A1AC-AAF0050C3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BCD1-82B4-4C50-B4D4-EB29CB810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F71A-74B6-4E60-BE12-9A0F14B21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1F2F-C381-46EA-BCBD-799BBAD6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3FD1-A6DE-4DB0-9D8D-1DE5DFF0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89A5-0A45-4AAD-A79F-50E64941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AABE-2F7C-4DA5-BFE5-653826E6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4A03B-E8B1-4F91-B1AA-71BAEBC8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B5A4-25F0-472B-9DC9-C2EF3D9B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8CC7-3D07-4BEA-A914-272EFC52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FDE4-8814-43CE-901D-7C0C46B9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BB90-1E38-4175-9AA6-EA3BE8D2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E089-9DFA-490C-86D3-ECF8A5A4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9B3D-7C3B-4F2F-B375-488B338CD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B8CC-DA1F-46CD-8786-D67DE21B1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72655-9B3D-4EC9-B876-7067359D9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F2E3A-79D1-48E5-9758-79461A15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13795-BB3E-4DB5-838A-2FBD39AE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9C1DF-15C0-4A80-84A2-33C880EC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6204D-B2C3-4DBF-BD42-C4AE9B96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1EF8-B4CF-4157-A7B8-C72987A4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7E0A3-374F-4423-8F1D-65069011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51141-427D-4814-BAE2-A2EDA767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DCC68-3492-4CC0-8FAD-C1E46C29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AEE92-7907-4027-886F-434D6188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A6ACF-E1C6-4D56-BC84-D697247C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26C2F-C6F5-48D0-B6F6-53B076ABD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B1640-7A5F-4DA9-8594-BD487EB1A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DD38D-B54D-4147-BFCC-05E528AA9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B87E1-4BB3-4538-91D0-7A798C10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809E0-6EE7-4E6E-BE6F-40BDA5C3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6C43-D64F-4271-897E-4F1BF4DD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8FFA0-FCC4-49ED-8E1F-BC69AEB9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60904-9D49-4E82-A1A2-30FA35AA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8F29A-DD23-4D57-97D1-53F618E1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68A21-C0CF-416C-A9BF-EC2AC635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35C09-5063-433C-B715-278CA67A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4AF9C-871E-41FF-BC87-F169BA8F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89CCC-CFD3-4E1B-B3D2-F766B8A6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AA707-3994-41A5-AB5D-7C78204C2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18EA6-F6FB-4041-B416-7467F19C7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EC1AB-2D2E-4892-A692-3749036A4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34C2-C98B-4785-983E-5377B466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A1619-9B2C-4198-9B0A-42F286A4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F6179-65A0-4AAE-8991-78ADAD6D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1CF48-E14A-4CED-92DB-7568EB59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F3C5C-0BDD-4F3B-BA9B-DF6A3382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35B52-3D01-41EC-99C4-FE0ED95C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29313-7F0A-4320-8B3A-4B93FCF5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C29B4-AA6C-40D1-80D7-C6D5C06D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84E69-29CD-4A83-8DA6-E0D7DE4B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9A3C3-46BC-4067-A390-DA8034A1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6A0FA-90D7-43D5-883A-4B01EEAF5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7E5B-CD8B-4203-AA2B-9A6560C1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0DFD9-4CEC-4C94-9495-9C42EBC6A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51242-DE65-447D-ABBD-7E8276C3C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F6171-0B18-4EB9-9036-5A948943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79F3D-4923-4C8F-83E1-9429B2B7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DA333-3A5B-4036-B17A-F529E8B2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96C3B-98F7-413D-B36F-A9BC33B3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F67F2-9344-4ED7-BB24-AC8855D3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E7AD3-DE9C-4759-8FD1-509884B3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0DDFF-9C11-4228-99FE-C1330A23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DE536-0444-475F-B416-146F945A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F09E-7705-4A11-8795-689BC650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0CCF9-2B5A-46CE-98E2-068556AC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3442F-2BBA-4143-8D8B-F5202F869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960D8-744E-4988-B14B-DB60210F1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D7C0-ED1A-4D1B-AA5A-E3070D93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B782-E1FA-4019-BC8B-E9C7F1EF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80E7-79CA-4F1C-82B0-3AAD8E6390DF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F07E-E7BE-4CBD-B5F9-05265FA88EC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83" name="Group 3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84" name="Line 4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Line 5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6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7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8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9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0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1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2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3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14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15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6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17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8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19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20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21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22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23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24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25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26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27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28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29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30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31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32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33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34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35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36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37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38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39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40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41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42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43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44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45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46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47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48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49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50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51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52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53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54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55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6" name="Picture 56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6EF7-3676-4EF2-B1D1-24677F6083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9C4E-7533-4C73-9041-0AB784183634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A904-A5E1-45C2-A635-78AFC7808FE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261" name="Group 3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62" name="Line 4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5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Line 6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Line 7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Line 8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9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10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11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12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13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14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Line 15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16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17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Line 18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Line 19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Line 20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Line 21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22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23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24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25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26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27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28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29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Line 30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31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Line 32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33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Line 34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35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Line 36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Line 37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Line 38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Line 39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Line 40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41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Line 42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43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Line 44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45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46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Line 47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48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Line 49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Line 50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Line 51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Line 52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53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Line 54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Line 55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4" name="Picture 56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6ABD-2ED7-4F0D-9534-564538434EA1}" type="slidenum"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14200" y="1285920"/>
            <a:ext cx="7772400" cy="20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Arial"/>
              </a:rPr>
              <a:t>Тема исследования:</a:t>
            </a:r>
            <a:br>
              <a:rPr sz="4400"/>
            </a:br>
            <a:r>
              <a:rPr b="0" lang="ru-RU" sz="4000" spc="-1" strike="noStrike">
                <a:solidFill>
                  <a:srgbClr val="996600"/>
                </a:solidFill>
                <a:latin typeface="Arial"/>
              </a:rPr>
              <a:t>Двоичная система счисления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142640" y="3857400"/>
            <a:ext cx="604188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3300"/>
                </a:solidFill>
                <a:uFillTx/>
                <a:latin typeface="Times New Roman"/>
              </a:rPr>
              <a:t>Авторы: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Иванов И., Петров П. 9 класс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0" y="285840"/>
            <a:ext cx="807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кола №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2000160" y="5072040"/>
            <a:ext cx="4465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Times New Roman"/>
              </a:rPr>
              <a:t>Руковод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Малышев В.В., учитель математики-инфор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Проблемный вопрос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62a00"/>
                </a:solidFill>
                <a:latin typeface="Times New Roman"/>
              </a:rPr>
              <a:t>Как компьютер работает с числами?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362" name="Picture 5" descr="Картинка 1 из 30609"/>
          <p:cNvPicPr/>
          <p:nvPr/>
        </p:nvPicPr>
        <p:blipFill>
          <a:blip r:embed="rId1"/>
          <a:stretch/>
        </p:blipFill>
        <p:spPr>
          <a:xfrm>
            <a:off x="1285920" y="2500200"/>
            <a:ext cx="5076720" cy="3810240"/>
          </a:xfrm>
          <a:prstGeom prst="rect">
            <a:avLst/>
          </a:prstGeom>
          <a:ln w="0">
            <a:noFill/>
          </a:ln>
        </p:spPr>
      </p:pic>
    </p:spTree>
  </p:cSld>
  <p:transition advTm="3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Цели исследования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яснить, как числа представлены в компьютере и как компьютер с ними работает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365" name="Picture 5" descr="Картинка 7 из 30609"/>
          <p:cNvPicPr/>
          <p:nvPr/>
        </p:nvPicPr>
        <p:blipFill>
          <a:blip r:embed="rId1"/>
          <a:stretch/>
        </p:blipFill>
        <p:spPr>
          <a:xfrm>
            <a:off x="3500280" y="3214800"/>
            <a:ext cx="4214880" cy="3163680"/>
          </a:xfrm>
          <a:prstGeom prst="rect">
            <a:avLst/>
          </a:prstGeom>
          <a:ln w="0">
            <a:noFill/>
          </a:ln>
        </p:spPr>
      </p:pic>
    </p:spTree>
  </p:cSld>
  <p:transition advTm="3000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Ход исследования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Участие в игре Ним и осмысление её результатов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Знакомство с двоичной системой счисления, арифметическими операциями в двоичной системе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зучение по учебнику Семакин Информатика и ИКТ 9 класс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transition advTm="3000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Выводы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е числа в компьютере представлены в двоичной форме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370" name="Picture 5" descr="Картинка 1 из 2481"/>
          <p:cNvPicPr/>
          <p:nvPr/>
        </p:nvPicPr>
        <p:blipFill>
          <a:blip r:embed="rId1"/>
          <a:stretch/>
        </p:blipFill>
        <p:spPr>
          <a:xfrm>
            <a:off x="3714840" y="250020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58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Используемые материалы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-360" y="11430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акин Информатика и ИКТ 9 класс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khpi-iip.mipk.kharkiv.edu/library/datastr/book_sod/structura/chapter1.htm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tspu.tula.ru/ivt/old_site/umr/timoi/solovieva/SS/dvoich_s.htm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dic.academic.ru/dic.nsf/ruwiki/5444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373" name="Picture 5" descr="Картинка 3 из 4030390"/>
          <p:cNvPicPr/>
          <p:nvPr/>
        </p:nvPicPr>
        <p:blipFill>
          <a:blip r:embed="rId1"/>
          <a:stretch/>
        </p:blipFill>
        <p:spPr>
          <a:xfrm>
            <a:off x="2714760" y="4214880"/>
            <a:ext cx="2760480" cy="2071800"/>
          </a:xfrm>
          <a:prstGeom prst="rect">
            <a:avLst/>
          </a:prstGeom>
          <a:ln w="0">
            <a:noFill/>
          </a:ln>
        </p:spPr>
      </p:pic>
    </p:spTree>
  </p:cSld>
  <p:transition advTm="3000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04:39:01Z</dcterms:created>
  <dc:creator>Helena</dc:creator>
  <dc:description/>
  <dc:language>en-US</dc:language>
  <cp:lastModifiedBy>26529</cp:lastModifiedBy>
  <dcterms:modified xsi:type="dcterms:W3CDTF">2010-05-24T10:23:01Z</dcterms:modified>
  <cp:revision>64</cp:revision>
  <dc:subject/>
  <dc:title>Слайд 1</dc:title>
</cp:coreProperties>
</file>